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22.jpeg" ContentType="image/jpeg"/>
  <Override PartName="/ppt/media/image15.wmf" ContentType="image/x-wmf"/>
  <Override PartName="/ppt/media/image14.jpeg" ContentType="image/jpeg"/>
  <Override PartName="/ppt/media/image23.wmf" ContentType="image/x-wmf"/>
  <Override PartName="/ppt/media/image9.jpeg" ContentType="image/jpeg"/>
  <Override PartName="/ppt/media/image11.wmf" ContentType="image/x-wmf"/>
  <Override PartName="/ppt/media/image30.wmf" ContentType="image/x-wmf"/>
  <Override PartName="/ppt/media/image33.jpeg" ContentType="image/jpeg"/>
  <Override PartName="/ppt/media/image32.wmf" ContentType="image/x-wmf"/>
  <Override PartName="/ppt/media/image7.wmf" ContentType="image/x-wmf"/>
  <Override PartName="/ppt/media/image20.jpeg" ContentType="image/jpeg"/>
  <Override PartName="/ppt/media/image34.wmf" ContentType="image/x-wmf"/>
  <Override PartName="/ppt/media/image29.jpeg" ContentType="image/jpeg"/>
  <Override PartName="/ppt/media/image35.jpeg" ContentType="image/jpeg"/>
  <Override PartName="/ppt/media/image27.jpeg" ContentType="image/jpeg"/>
  <Override PartName="/ppt/media/image13.wmf" ContentType="image/x-wmf"/>
  <Override PartName="/ppt/media/image36.wmf" ContentType="image/x-wmf"/>
  <Override PartName="/ppt/media/image38.png" ContentType="image/png"/>
  <Override PartName="/ppt/media/image39.jpeg" ContentType="image/jpeg"/>
  <Override PartName="/ppt/media/image40.jpeg" ContentType="image/jpeg"/>
  <Override PartName="/ppt/media/image8.wmf" ContentType="image/x-wmf"/>
  <Override PartName="/ppt/media/image31.jpeg" ContentType="image/jpeg"/>
  <Override PartName="/ppt/media/image10.wmf" ContentType="image/x-wmf"/>
  <Override PartName="/ppt/media/image12.jpeg" ContentType="image/jpeg"/>
  <Override PartName="/ppt/media/image4.png" ContentType="image/png"/>
  <Override PartName="/ppt/media/image2.jpeg" ContentType="image/jpeg"/>
  <Override PartName="/ppt/media/image25.wmf" ContentType="image/x-wmf"/>
  <Override PartName="/ppt/media/image28.wmf" ContentType="image/x-wmf"/>
  <Override PartName="/ppt/media/image37.jpeg" ContentType="image/jpeg"/>
  <Override PartName="/ppt/media/image3.jpeg" ContentType="image/jpeg"/>
  <Override PartName="/ppt/media/image24.jpeg" ContentType="image/jpeg"/>
  <Override PartName="/ppt/media/image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9350-8243-452B-8CDE-2DBCDC5D751B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D9DF-4FC8-4FD7-B7CB-1378CBD2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543D-BBBE-460F-8DAA-18CA9E01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A27A-A702-49EE-83A2-27ED79EF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586-B6FE-45A8-82EF-5BAAAD8D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9B14-E361-409E-816C-A63A71B8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D6BB-3951-4F30-8743-B42E9189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B274-5936-40C0-81F5-A660583F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4C5D-4A4C-4D9E-B45E-A876EA42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6EF7-3D89-4DF9-B147-3E2574DC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F7BF-260F-496A-82E8-B1AA771A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1718-C87F-4B1C-82BE-12D95478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7585-B418-4EB4-8F7F-A09AE9A2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FB03-28C6-4483-8265-2BB02E46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E589-C87C-431F-8764-EFD2F649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A3F9-EAA7-4757-A0F8-7BDF3A60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A62C-45FE-4C81-9FA1-18A52741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220E-7D90-486F-A49C-986B20ED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586F7-9524-4801-89AB-A937E237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F3ED4-A901-45BF-BBB3-833BD1B9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4B895-E8CF-4FBD-BB60-C5CCAD61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A9D1E-AFEF-4DEF-8A72-59C18C9D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0FA6B-3F39-444D-863D-EB3FFF5E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3E01-0CE7-4E11-88FD-F7DE5303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3BBFC-4853-439D-AC59-2B647778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864A0-2037-4B4B-90B5-2BD56E1F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E9114-90AC-47B5-92D5-6A52CE1D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94BF4-2FA8-4DB4-936D-5AC4B35B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25DE7-7991-417D-859D-D2A3AAB3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F7F24-FA08-4D6B-B050-9735FE9D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6E665-09E2-45F2-9EB8-3FF683E8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E35F1-2CA4-475F-A0B4-7C7A76B7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A7F51-6427-47F1-A813-122C4568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38A27-A724-40CE-8B01-5FD2BF7E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BF75-3A21-4353-BA08-0D3A8607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A9BD0-844B-4445-8712-29966EAC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1A716-7D02-4F9A-BFCD-1186D228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AB76B-C806-4892-9068-D86BD236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0F596-AAA3-45B3-880F-8D352444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DB931-93D5-4473-B4CE-E4CB8728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10F5C-FE37-4EF4-9003-4A08864D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55408-1381-4152-8D7E-9BB32338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13E1D-B062-403D-98CF-A5279B0B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F6D67-A44B-4445-ABD2-DD0520DF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3FB13-D224-4FC1-810B-4329A29D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9DD9-465F-4F4C-B18B-876E9E81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AE6FC-C3E0-4CF6-B230-293A59D1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FB175-A72C-424E-8834-EB897BA5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E0F98-A567-4681-829D-AF180035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D498D-0EE7-471E-A170-A4DF01A4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2DA4F-B04D-4142-8B59-8844415B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B07A3-1634-4244-B427-3E43BE42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E3DD8-EB89-4898-89F0-91A4B40B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126CE-E230-44D3-8EEA-CE218121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F248A-3F53-49D9-9B1C-200CAC69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B5C54-1C8E-41C4-A2FF-5D234CCF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9C43-B20D-4F76-B554-04492878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BED30-D6EB-4888-84C2-6E5A0676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E7B84-2094-4301-A9FB-6C182586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01AF9-56EB-48CC-89FC-F82BCCD1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CFB0A-32BF-4CF6-BD73-2680ABB0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BCBB0-9EF1-4F98-934E-09BC3D67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B2CB2-28E6-4726-AB63-42A7293E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A2874-A11B-4976-87CD-711EAABF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D9268-5F22-434E-945F-DED27603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F8350-7DE0-4E45-AF97-468CCC36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5361B-C8D8-46C7-934B-3D560B36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1FD1-5292-4717-BB39-A447D72A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92A33-770C-4B56-8526-D4697FB3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9A89D-62CD-46DC-A14E-045D48E5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4011C-BC94-4BCD-BE40-A6794D69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5356B-6512-4F6F-9F56-1311A018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09EC0-A922-436C-ACA3-C82FB306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43CCA-AD8D-4429-8EBA-7FE64603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DC676-F424-4928-BC2A-86131925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00E8A-EE54-428E-A965-B22801F8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CD253-4723-4BB5-9EF3-091832FE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18183-8463-42A3-8727-901FB465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F5C-274A-4E8E-934A-B6FF7DB2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7C231-AA1A-465C-831D-9003C482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C5B6E-72E8-415E-8D65-88BEFB63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3ADC8-262D-47A9-AB93-C83A8675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7443A-28DF-40A5-99FF-B8C8876E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067CB-97A4-41A0-B1A4-BAF4AD12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F6FE-3A89-4BB1-A6D6-E477BA16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859C-B177-4BB6-A802-E5AC77C01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9213-F17C-411A-ACBF-6C022080B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7DB1-492F-424D-9004-666E4FCEA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6EDF-5411-4B63-94F4-38A7DF87B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60F9-1F59-472C-B8F1-0F908BCDA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A653-C45D-45CB-80F5-5D7A35E0847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D1E8-7C75-467C-946A-733486C48E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6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36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7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383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5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1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392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99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00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407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415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7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424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6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431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01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3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436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7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0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2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6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0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4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8" dur="500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3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07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08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17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8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30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1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3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338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9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34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35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5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25:37Z</dcterms:modified>
  <cp:revision>1180</cp:revision>
  <dc:subject/>
  <dc:title>Sin título de diapositiva</dc:title>
</cp:coreProperties>
</file>